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3F3-BA2F-43E9-A7FD-3F780ACD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E77-87A4-4FA6-9D68-79E4747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35E-0AE1-495F-B27C-D7DD9737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323-F4F6-49F9-B34E-3B465794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33C-558A-4BC7-95BC-4B8A53C8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608-DDB8-4170-A6F9-633F4ADE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17C-F84A-4BFD-99BA-D5037041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3A3-D006-4000-B211-DD679661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AE2-F0B1-4F38-BA2C-FAB4C7B2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1EF-28D2-4529-95FA-E050BB0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9CF-B444-44DF-85A0-870CE6E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E99-87AA-4D3B-9963-D157BE9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A1E-D348-44CF-91FE-CB7857BB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428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0c0c0"/>
                </a:solidFill>
                <a:latin typeface="comic"/>
              </a:rPr>
              <a:t>29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на радост свя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молитви и покло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га вести земят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ния закон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пресвят, тър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отдих и пок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ен ден Бо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ай-светъл ден е т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Църковните олтар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нес канят вси души: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ца, младежи, стар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там ще утеши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азнува днес земят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ня на радостта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Ликуват небеса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царува любов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ворбата на всемир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върши Бог в тоз ден.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туй в нас не умир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з спомен осветен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ославяме със радос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ния Отец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з ден, изпълнен с святос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т нашия Твор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14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бравили тревог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почивния ден свят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емаме от Бог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собна благода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пресвят, тър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отдих и пок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ен ден Бо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ай-светъл ден е той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12:16Z</dcterms:created>
  <dc:creator>TrifonTrifonow</dc:creator>
  <dc:description/>
  <dc:language>en-US</dc:language>
  <cp:lastModifiedBy>TrifonTrifonow</cp:lastModifiedBy>
  <dcterms:modified xsi:type="dcterms:W3CDTF">2005-11-21T12:23:28Z</dcterms:modified>
  <cp:revision>10</cp:revision>
  <dc:subject/>
  <dc:title>Slide 1</dc:title>
</cp:coreProperties>
</file>